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695-5FF2-488D-96BA-1B7F5CF6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D19-0697-4EBE-85EF-B7D19FE8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5DC-33C7-494A-A9E7-D350B598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EF5-9EFE-42C5-8904-C2A6CD39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40BA-52E8-4AE2-AD23-840EDC64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5E66-182F-49B1-A76E-A57D4D8B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8330-C440-4F4E-89B1-0A1E2AC4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9C9F-A9AF-40AB-B86D-67B9A69F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157C-CE6F-459B-8909-E156C606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F4CF-53BC-4DAF-84F1-D91A644A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0368-A747-4B75-B5EB-6DBD09EF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581-D7E8-4E95-8ABE-0DDDFBFF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8108-7EAF-47C9-831B-5F8BD08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7837-2FF2-4A01-A841-9DC7804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F0B4-65BA-4330-8DC8-A01BD620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4B77-DA86-4651-8D37-93C3EF9D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73B2-1530-42D3-86F9-CA094B0D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97E-2CB6-4D93-811E-24978BD9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AB0-8826-4AE1-839A-12163F35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9A9-A0AE-4666-A90F-C504D29A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659-E262-4C2D-B743-6A7D41B7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2CC-B190-4A67-9D9F-80319F50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5CD-CE45-4A65-AAED-97A1497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9B7-7E3C-45AA-8E17-3FDE7319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4A29-E408-4768-BE83-0AB1060C3F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9AE7-A636-40F5-BC01-71CD86AF02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acificbowl.com/images/happy-face.gif&amp;imgrefurl=http://www.pacificbowl.com/ourstaff.html&amp;h=380&amp;w=380&amp;sz=18&amp;hl=en&amp;start=2&amp;um=1&amp;tbnid=_7A6XmYjhj8k8M:&amp;tbnh=123&amp;tbnw=123&amp;prev=/images?q=happy+face&amp;gbv=2&amp;um=1&amp;hl=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illamette.edu/dept/facilities/images/Enterprise%2520minivan.jpg&amp;imgrefurl=http://www.willamette.edu/dept/facilities/motorpool/index.html&amp;h=480&amp;w=640&amp;sz=33&amp;hl=en&amp;start=17&amp;tbnid=g5E3v3eFen641M:&amp;tbnh=103&amp;tbnw=137&amp;prev=/images?q=minivan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izmodo.com/assets/resources/2006/07/seat_cooler.jpg&amp;imgrefurl=http://gizmodo.com/gadgets/gadgets/smarthome-seat-cooler-blessed-summertime-relief-190908.php&amp;h=520&amp;w=520&amp;sz=88&amp;hl=en&amp;start=12&amp;tbnid=Mnmdp5nlGRMuKM:&amp;tbnh=131&amp;tbnw=131&amp;prev=/images?q=seat&amp;gbv=2&amp;hl=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ur-picks.com/wp-content/uploads/2007/07/do-not-touch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xrx.net/Images/Weightlifting/WeightliftingShoes.jpg&amp;imgrefurl=http://www.exrx.net/WeightTraining/Weightlifting/WeightliftingShoes.html&amp;h=483&amp;w=407&amp;sz=22&amp;hl=en&amp;start=4&amp;um=1&amp;tbnid=He8Wt1DfVWAP5M:&amp;tbnh=129&amp;tbnw=109&amp;prev=/images?q=shoes&amp;gbv=2&amp;um=1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ermes-online.com/direct/dbimage/50300160/Angora_Blend_Socks.jpg&amp;imgrefurl=http://www.germes-online.com/catalog/69/227/329802/angora_blend_socks.html&amp;h=360&amp;w=360&amp;sz=26&amp;hl=en&amp;start=6&amp;um=1&amp;tbnid=s4HwXIn-4EoraM:&amp;tbnh=121&amp;tbnw=121&amp;prev=/images?q=socks&amp;gbv=2&amp;um=1&amp;hl=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utoadviceoffl.com/blog/seatbelt.jpg&amp;imgrefurl=http://www.autoadviceoffl.com/blog/&amp;h=248&amp;w=345&amp;sz=9&amp;hl=en&amp;start=4&amp;um=1&amp;tbnid=fbOmvqZaEYdt0M:&amp;tbnh=86&amp;tbnw=120&amp;prev=/images?q=seatbelt&amp;gbv=2&amp;um=1&amp;hl=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tsgomobile.org/images/news/parrot/driver-headset.jpg&amp;imgrefurl=http://www.letsgomobile.org/en/2146/driver-headset/&amp;h=313&amp;w=430&amp;sz=94&amp;hl=en&amp;start=1&amp;um=1&amp;tbnid=x-i8Wo_3pLZR8M:&amp;tbnh=92&amp;tbnw=126&amp;prev=/images?q=driver&amp;gbv=2&amp;um=1&amp;hl=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illamette.edu/dept/facilities/images/Enterprise%2520minivan.jpg&amp;imgrefurl=http://www.willamette.edu/dept/facilities/motorpool/index.html&amp;h=480&amp;w=640&amp;sz=33&amp;hl=en&amp;start=17&amp;tbnid=g5E3v3eFen641M:&amp;tbnh=103&amp;tbnw=137&amp;prev=/images?q=minivan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ry’s Trip to School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The sign at East Franklin"/>
          <p:cNvPicPr/>
          <p:nvPr/>
        </p:nvPicPr>
        <p:blipFill>
          <a:blip r:embed="rId1"/>
          <a:stretch/>
        </p:blipFill>
        <p:spPr>
          <a:xfrm>
            <a:off x="3276720" y="3581280"/>
            <a:ext cx="24382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fun to come to school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happy-fa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8954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Mary has to follow the rules in order to arrive at school saf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schoolhouse"/>
          <p:cNvPicPr/>
          <p:nvPr/>
        </p:nvPicPr>
        <p:blipFill>
          <a:blip r:embed="rId1"/>
          <a:stretch/>
        </p:blipFill>
        <p:spPr>
          <a:xfrm>
            <a:off x="2362320" y="304812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chool day, Mary rides in a van to her school at East Frankli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Enterprise%2520miniv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20040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re are rules for Mary to follow when riding in the van.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Van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stays in her s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seat_cool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38280"/>
            <a:ext cx="1905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Mary keeps her hands to herself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do-not-tou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590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keeps her shoes and socks on her fe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WeightliftingSh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89548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gora_Blend_Soc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124080"/>
            <a:ext cx="1990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wears her seatbel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seatbel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895480"/>
            <a:ext cx="3733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does not distract the van driv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driver-heads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666880"/>
            <a:ext cx="4572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stays in the van until Miss Margaret or another teacher comes to get 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Enterprise%2520miniv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200400"/>
            <a:ext cx="441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7:38:31Z</dcterms:created>
  <dc:creator>rlesako</dc:creator>
  <dc:description/>
  <dc:language>en-US</dc:language>
  <cp:lastModifiedBy>Kristin Szewczyk</cp:lastModifiedBy>
  <dcterms:modified xsi:type="dcterms:W3CDTF">2008-07-10T09:14:38Z</dcterms:modified>
  <cp:revision>4</cp:revision>
  <dc:subject/>
  <dc:title>Abby’s Trip to School</dc:title>
</cp:coreProperties>
</file>